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6E03-E9C4-4334-8BE5-78A04B23D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DDF1-D442-496D-8612-9C7C1453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E964-6BBD-4B66-A410-96E94FBE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661D-11F0-453A-AF32-81317621D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8F97-18F5-40C1-B65C-D0F47BB15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ECCE-E6D9-4945-BAEB-923FDF61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E04D-1E6E-4B10-9C6B-AD1E9648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C648-AF0F-4FED-AC73-03437640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F756-7A68-4A60-9C32-D39009F4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E31D-2E12-4379-9834-7EE95943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3ACA4-82CB-40C5-9230-BCAFECBC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64C2-D917-46CE-8FEB-112AB7A8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C7BE-ADC7-4EA6-972F-4EE04242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8157-47B4-42FA-A43E-5EF8F34C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BD9D-E212-45CE-9E3F-A0913A2F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53C8-22B1-4F83-BF3D-1CA964AFB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303E-15D7-4A8D-8F4A-B21BFF2BF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2284-62BF-4CFC-919A-76CC6DED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2C19-0885-41DB-B514-CACED485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7210-E127-40B9-8D4E-813FE752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FE37-9342-43E7-95FA-9B35B5D8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1D01-740F-476A-A6F8-E4FB4F42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CC08-7763-4098-A488-A597C2CA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26AC-82AD-4ECC-BB4A-96931811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EED6-C19E-4F0A-945A-7C5B39075A09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D333-C43D-4E86-8111-80DC25780425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24000" y="838080"/>
            <a:ext cx="6696000" cy="518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190520" y="843120"/>
            <a:ext cx="676296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14280" y="852480"/>
            <a:ext cx="67154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24000" y="861840"/>
            <a:ext cx="669600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233360" y="833400"/>
            <a:ext cx="667728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24000" y="852480"/>
            <a:ext cx="6696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14280" y="843120"/>
            <a:ext cx="671544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224000" y="852480"/>
            <a:ext cx="6696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5T07:51:07Z</dcterms:created>
  <dc:creator>0mar a. ali</dc:creator>
  <dc:description/>
  <dc:language>en-US</dc:language>
  <cp:lastModifiedBy>0mar a. ali</cp:lastModifiedBy>
  <dcterms:modified xsi:type="dcterms:W3CDTF">2006-06-26T12:21:35Z</dcterms:modified>
  <cp:revision>3</cp:revision>
  <dc:subject/>
  <dc:title>Slide 1</dc:title>
</cp:coreProperties>
</file>